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05A4-D18F-4049-9722-98842CADDF1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97F2-0D3F-4412-B4DA-282761CD102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F8F2-A3BA-4163-8159-F19364D6B7D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5A5F-C564-4FB6-AAF3-087BF88CF35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31B0-2B51-4D3C-8BC2-F04E5DF7F56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094D-C555-473E-B765-11B80DA2AF8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vcell.ndsu.edu/animations/etc/Stills/0917.jpg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electron-transport-and-chemiosmosis/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C3A6-9EE5-478A-A18A-B1AF2877A3E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CA" sz="400" spc="-1" strike="noStrike">
                <a:solidFill>
                  <a:srgbClr val="000000"/>
                </a:solidFill>
                <a:latin typeface="Calibri"/>
              </a:rPr>
              <a:t>http://www.depts.ttu.edu/chemistry/Faculty/weber/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42BE-8ADD-4E8B-AF26-8B0602DFF30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410C-4886-4387-9874-5613C62480E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EC21-8474-46A5-A3DD-A78BD336F77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98B-A19C-42EE-AE0E-2A12793D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BA7-4CBD-4E22-A1DB-79BB4929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B3D-A13B-4F77-945A-C126C24F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22AC-049F-4AB0-BC28-57243BB1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ADDF-BB75-43BA-B7A2-0D3A212C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7A4-BB1C-4185-A537-7A8A830C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D0F-FAA7-4B33-855F-7CA78691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1A8-B16E-4A2D-9240-58C7BD47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C179-8E05-46E7-AC72-DC3860EF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42B4-522B-47C6-A007-E3EFAF53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CCB-7D17-4DDD-AE16-0B933277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DC2-A5B5-440F-97F6-2C2208D1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1953-A0EB-4436-919D-6CA4EC3E9E55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ience.smith.edu/departments/Biology/Bio231/etc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898989"/>
                </a:solidFill>
                <a:latin typeface="Arial"/>
              </a:rPr>
              <a:t>The Electron Transport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898989"/>
                </a:solidFill>
                <a:latin typeface="Arial"/>
              </a:rPr>
              <a:t>  </a:t>
            </a:r>
            <a:r>
              <a:rPr b="0" lang="en-CA" sz="3200" spc="-1" strike="noStrike">
                <a:solidFill>
                  <a:srgbClr val="898989"/>
                </a:solidFill>
                <a:latin typeface="Arial"/>
              </a:rPr>
              <a:t>&amp; Oxidative Phosphory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ual Yield: &lt; 38 AT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xact ratio of NADH and FAD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glycerol-phosphate shuttle vs. malate-aspartate shut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upling of electron transport and chemiosm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ow might be used to power other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1371240"/>
            <a:ext cx="830592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&amp; clear animation with narr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ttp://highered.mcgraw-hill.com/sites/0072437316/student_view0/chapter9/animations.html#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step-by-step anim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science.smith.edu/departments/Biology/Bio231/etc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visit the Khan Academ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llent lesson on the Electron Transport Ch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khanacademy.org/video/electron-transport-chain?playlist=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dditional Anim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-by-step animation with explan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ttp://www.sp.uconn.edu/~terry/Common/respiration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interested in the chemical structure of all of the molecules involved, watch this animation ser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kyr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com/mitochondrion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final stage of aerobic cellular 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st of the energy from the original glucose molecule is transferred to ATP molecules during this s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s place on the inner membrane of the mitochondr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Text Placeholder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ext Placeholder 2" descr=""/>
          <p:cNvPicPr/>
          <p:nvPr/>
        </p:nvPicPr>
        <p:blipFill>
          <a:blip r:embed="rId1"/>
          <a:stretch/>
        </p:blipFill>
        <p:spPr>
          <a:xfrm>
            <a:off x="1679400" y="1600200"/>
            <a:ext cx="578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watch a movi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vcell.ndsu.edu/animations/etc/movie-flash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www.langara.bc.ca/biology/mario/Assets/ETC.jpg"/>
          <p:cNvPicPr/>
          <p:nvPr/>
        </p:nvPicPr>
        <p:blipFill>
          <a:blip r:embed="rId1"/>
          <a:stretch/>
        </p:blipFill>
        <p:spPr>
          <a:xfrm>
            <a:off x="728640" y="1143000"/>
            <a:ext cx="75009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TP Synthase Compl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68440" y="1523880"/>
            <a:ext cx="410868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langara.bc.ca/biology/mario/Assets/chemiosmosis.jpg"/>
          <p:cNvPicPr/>
          <p:nvPr/>
        </p:nvPicPr>
        <p:blipFill>
          <a:blip r:embed="rId1"/>
          <a:stretch/>
        </p:blipFill>
        <p:spPr>
          <a:xfrm>
            <a:off x="1523880" y="1676520"/>
            <a:ext cx="61437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oretical Energy Y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43040" y="157176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Glycolysi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ubstrate-level phosphorylation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2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2 NADH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2 FAD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4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or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2 NADH)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(6 ATP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Pyruvat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Oxidation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2 NADH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6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Krebs Cycle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ubstrate-level phosphorylation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2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6 NADH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8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2 FAD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4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TAL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6 ATP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(38 AT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20:54:35Z</dcterms:created>
  <dc:creator>jen</dc:creator>
  <dc:description/>
  <dc:language>en-US</dc:language>
  <cp:lastModifiedBy>rubina khan</cp:lastModifiedBy>
  <dcterms:modified xsi:type="dcterms:W3CDTF">2012-10-23T12:56:03Z</dcterms:modified>
  <cp:revision>102</cp:revision>
  <dc:subject/>
  <dc:title>Slide 1</dc:title>
</cp:coreProperties>
</file>